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058-A976-44B9-BB93-58930951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B88-4934-450E-B486-1C769E30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20B-DF3A-4E78-AB0E-7D7E456E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535-9E36-480F-8A68-E56F825D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477B-BCFB-4C04-B17B-696C4C1D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1797-C1C6-46B4-8F31-6AE8B14B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F1F5-CE38-4420-9B21-314F6EE4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B9B4-C730-4DC6-A9EA-9556B044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D0F4-BFD6-4070-888D-F9D51097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CD45-8E86-427A-83CE-F1A9050E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8DAF-6744-4789-903A-4F8DF0D8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24C-417F-4C69-A6CF-5C182DF9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1220-294F-4FB6-9FA2-04E359D6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2111-231F-4BF9-942F-1045648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E196-0083-47AA-8EFC-21DB6AFF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0899-C75D-4E77-B4E9-8337319F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BA07-BD25-493F-B6C5-E7C15DC1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916-26B7-4FF8-82FF-D03D9DD6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1A6-8A0F-4CA8-9BD7-A27309FA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2C1-6E2A-4DE9-8F39-EC75CDD4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1AE-A270-44AB-8DDB-22E196AD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226-BFC7-4FE3-9C01-7DAD2060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69F-C651-46C4-B65E-22EBC35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42D-A029-4A0C-AFD1-E3AD35F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C73-0DEA-49BC-9CE9-18F519DE5C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C0B4-FEA2-476D-9DEC-C6805FFCF6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ve Bas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ce 2008-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: Julia Fau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lectromagnetic Radiation Wav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se come from the sun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Radio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Micro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Infrared (Heat wa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Visible L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UV Ray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X-Ray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Gamma Ray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66600" y="6477120"/>
            <a:ext cx="495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xscience.edu/ourpages/users/Villani/bionic/2000/Pics/x%20ray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und Wa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not travel in spac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in amplitude=volu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in Wavelength=pi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3705480" cy="2779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99080" y="6400800"/>
            <a:ext cx="47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robproductions.com/bigstockphoto_Sound_Waves_134503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 Types of Wa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verse Wa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-These waves go side to s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GHT!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gitudinal Wa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-These waves push and pu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ND!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429000" cy="225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0160" y="6172200"/>
            <a:ext cx="39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dkimages.com/discover/previews/857/3506955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952880" y="4191120"/>
            <a:ext cx="3276720" cy="1525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56320" y="6172200"/>
            <a:ext cx="41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glenbrook.k12.il.us/GBSSCI/PHYS/MMEDIA/waves/tfl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lectro-magnetic Waves vs. Mechanical Wav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o-magne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 able to transmit energy through a vacu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not need a medi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chanic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’t transmit energy through a vacuum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 a medi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ve Definitio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traveling disturbance that transfers energ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5448240" cy="312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99360" y="6350040"/>
            <a:ext cx="692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1.moe.edu.sg/learn@/Quest/winners/secondary/raffles_girls_sch_nc/Folders/Frames/Images/wav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ak or high point of a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84200" y="356868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oug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low point of a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84200" y="356868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53341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5562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ting point of a wave, in other words there is no disturb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84200" y="356868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4920" y="4572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257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mplitu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int of maximum displacement from the equilib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measures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volum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a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84200" y="356868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505320"/>
            <a:ext cx="76320" cy="99036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380988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velength (</a:t>
            </a:r>
            <a:r>
              <a:rPr b="0" lang="el-GR" sz="38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tance or length of one full wave cycle (trough to trough of crest to cres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should be the same distance for each waveleng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42900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3733560" y="3961800"/>
            <a:ext cx="304920" cy="2743200"/>
          </a:xfrm>
          <a:custGeom>
            <a:avLst/>
            <a:gdLst>
              <a:gd name="textAreaLeft" fmla="*/ 89640 w 304920"/>
              <a:gd name="textAreaRight" fmla="*/ 305280 w 304920"/>
              <a:gd name="textAreaTop" fmla="*/ 114120 h 2743200"/>
              <a:gd name="textAreaBottom" fmla="*/ 26290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028840" y="1752480"/>
            <a:ext cx="304920" cy="2743200"/>
          </a:xfrm>
          <a:custGeom>
            <a:avLst/>
            <a:gdLst>
              <a:gd name="textAreaLeft" fmla="*/ 89640 w 304920"/>
              <a:gd name="textAreaRight" fmla="*/ 305280 w 304920"/>
              <a:gd name="textAreaTop" fmla="*/ 114120 h 2743200"/>
              <a:gd name="textAreaBottom" fmla="*/ 26290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971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ve Frequenc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often a full wave cycle occurs, or the amount of time it takes for one full wave cycle to occu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 is measured in Hertz (Hz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 also measures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pitc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a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391640" y="6613560"/>
            <a:ext cx="412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davidjarvis.ca/dave/gallery/lg/sine-wave-frequency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d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20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ubstance or “stuff” the wave travels throug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Wa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A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are no mediums in spac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basically means NO SOUND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ght CAN travel without a mediu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24280" y="2300400"/>
            <a:ext cx="3429000" cy="235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113000" y="6477120"/>
            <a:ext cx="450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odin.physastro.mnsu.edu/%7Eeskridge/astr101/Surface_wav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23:50Z</dcterms:created>
  <dc:creator>Lisa Faul</dc:creator>
  <dc:description/>
  <dc:language>en-US</dc:language>
  <cp:lastModifiedBy>Lisa Faul</cp:lastModifiedBy>
  <dcterms:modified xsi:type="dcterms:W3CDTF">2009-05-11T04:02:23Z</dcterms:modified>
  <cp:revision>9</cp:revision>
  <dc:subject/>
  <dc:title>Wave Basics</dc:title>
</cp:coreProperties>
</file>